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27.gif" ContentType="image/gi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0880" y="428760"/>
            <a:ext cx="431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义务教育课程标准实验教科书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33360" y="1155600"/>
            <a:ext cx="165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九年级 上册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38280" y="3809880"/>
            <a:ext cx="46674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28.2 </a:t>
            </a:r>
            <a:r>
              <a:rPr b="0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解一元二次方程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7800" y="1641600"/>
            <a:ext cx="551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　　某校要在校园内墙边的空地上修建一个平面图为存车处，要求存车处的一面靠墙（墙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5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如图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所示），另外三面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90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铁栅栏围起来，并在与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垂直的一边上开一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宽的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如果矩形存车处的面积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480m</a:t>
            </a:r>
            <a:r>
              <a:rPr b="1" lang="zh-CN" sz="32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求存车处的长和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438960" y="1771560"/>
            <a:ext cx="2419200" cy="2514600"/>
            <a:chOff x="6438960" y="1771560"/>
            <a:chExt cx="2419200" cy="2514600"/>
          </a:xfrm>
        </p:grpSpPr>
        <p:sp>
          <p:nvSpPr>
            <p:cNvPr id="184" name=""/>
            <p:cNvSpPr/>
            <p:nvPr/>
          </p:nvSpPr>
          <p:spPr>
            <a:xfrm>
              <a:off x="6438960" y="1771560"/>
              <a:ext cx="285840" cy="2514600"/>
            </a:xfrm>
            <a:prstGeom prst="rect">
              <a:avLst/>
            </a:prstGeom>
            <a:solidFill>
              <a:srgbClr val="336699"/>
            </a:soli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24800" y="2228760"/>
              <a:ext cx="2133360" cy="152424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86560" y="2095560"/>
              <a:ext cx="5907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71040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1680" y="40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84920" y="1771560"/>
            <a:ext cx="554040" cy="2519280"/>
            <a:chOff x="5884920" y="1771560"/>
            <a:chExt cx="554040" cy="2519280"/>
          </a:xfrm>
        </p:grpSpPr>
        <p:sp>
          <p:nvSpPr>
            <p:cNvPr id="190" name=""/>
            <p:cNvSpPr/>
            <p:nvPr/>
          </p:nvSpPr>
          <p:spPr>
            <a:xfrm>
              <a:off x="6039000" y="1771560"/>
              <a:ext cx="39996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29280" y="4290840"/>
              <a:ext cx="39996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5884920" y="2676240"/>
              <a:ext cx="5461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5m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210360" y="1828800"/>
              <a:ext cx="0" cy="876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10360" y="3343320"/>
              <a:ext cx="0" cy="876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445880" y="272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存车处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800" y="304920"/>
            <a:ext cx="3076560" cy="820440"/>
            <a:chOff x="685800" y="304920"/>
            <a:chExt cx="3076560" cy="8204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6858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673280" y="304920"/>
              <a:ext cx="2089080" cy="684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7809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62120" y="457200"/>
            <a:ext cx="21524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2036160" y="2590920"/>
            <a:ext cx="26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课本   同步练习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2120" y="457200"/>
            <a:ext cx="3184200" cy="792000"/>
            <a:chOff x="762120" y="457200"/>
            <a:chExt cx="3184200" cy="792000"/>
          </a:xfrm>
        </p:grpSpPr>
        <p:pic>
          <p:nvPicPr>
            <p:cNvPr id="80" name="" descr=""/>
            <p:cNvPicPr/>
            <p:nvPr/>
          </p:nvPicPr>
          <p:blipFill>
            <a:blip r:embed="rId2"/>
            <a:srcRect l="0" t="0" r="33304" b="7082"/>
            <a:stretch/>
          </p:blipFill>
          <p:spPr>
            <a:xfrm>
              <a:off x="762120" y="457200"/>
              <a:ext cx="1008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2073240" y="56520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试着做做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1676520" y="1600200"/>
          <a:ext cx="154296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600200"/>
                    <a:ext cx="15429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03720" y="1685880"/>
          <a:ext cx="15843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3720" y="1685880"/>
                    <a:ext cx="1584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86000" y="2438280"/>
          <a:ext cx="248616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438280"/>
                    <a:ext cx="24861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514600" y="3352680"/>
          <a:ext cx="21859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352680"/>
                    <a:ext cx="2185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90920" y="4267080"/>
          <a:ext cx="218736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267080"/>
                    <a:ext cx="218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62320" y="5029200"/>
          <a:ext cx="2914560" cy="77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5029200"/>
                    <a:ext cx="2914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6120" y="172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如果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2160" y="172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那么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300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15600" y="34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：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762120" y="457200"/>
            <a:ext cx="3184200" cy="792000"/>
            <a:chOff x="762120" y="457200"/>
            <a:chExt cx="3184200" cy="79200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0" t="0" r="33304" b="7082"/>
            <a:stretch/>
          </p:blipFill>
          <p:spPr>
            <a:xfrm>
              <a:off x="762120" y="457200"/>
              <a:ext cx="1008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2073240" y="56520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试着做做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2743200" y="1752480"/>
          <a:ext cx="24433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752480"/>
                    <a:ext cx="2443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71800" y="4800600"/>
          <a:ext cx="304812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800600"/>
                    <a:ext cx="30481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10200" y="190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666880"/>
            <a:ext cx="7810560" cy="1099800"/>
            <a:chOff x="1066680" y="2666880"/>
            <a:chExt cx="7810560" cy="1099800"/>
          </a:xfrm>
        </p:grpSpPr>
        <p:sp>
          <p:nvSpPr>
            <p:cNvPr id="107" name=""/>
            <p:cNvSpPr/>
            <p:nvPr/>
          </p:nvSpPr>
          <p:spPr>
            <a:xfrm>
              <a:off x="1066680" y="2819520"/>
              <a:ext cx="7086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对于　　　　　　　　　　　　　　　　　形式的方程，我们都可以用类似方法解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.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　</a:t>
              </a:r>
              <a:endParaRPr b="0" lang="en-US" sz="2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1828800" y="2666880"/>
            <a:ext cx="7048440" cy="765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2666880"/>
                      <a:ext cx="7048440" cy="7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"/>
          <p:cNvSpPr/>
          <p:nvPr/>
        </p:nvSpPr>
        <p:spPr>
          <a:xfrm>
            <a:off x="5751720" y="3887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直接开平方法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8800" y="4952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762120" y="380880"/>
            <a:ext cx="3184200" cy="792000"/>
            <a:chOff x="762120" y="380880"/>
            <a:chExt cx="3184200" cy="7920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rcRect l="0" t="0" r="33304" b="7082"/>
            <a:stretch/>
          </p:blipFill>
          <p:spPr>
            <a:xfrm>
              <a:off x="762120" y="380880"/>
              <a:ext cx="1008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2073240" y="48888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试着做做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2666880" y="1371600"/>
          <a:ext cx="36576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371600"/>
                    <a:ext cx="36576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17640" y="2286000"/>
          <a:ext cx="36068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7640" y="2286000"/>
                    <a:ext cx="3606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79760" y="3048120"/>
          <a:ext cx="28447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9760" y="3048120"/>
                    <a:ext cx="2844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141720" y="3886200"/>
          <a:ext cx="331776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1720" y="3886200"/>
                    <a:ext cx="3317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08080" y="5410080"/>
            <a:ext cx="2666880" cy="685800"/>
            <a:chOff x="208080" y="5410080"/>
            <a:chExt cx="2666880" cy="685800"/>
          </a:xfrm>
        </p:grpSpPr>
        <p:sp>
          <p:nvSpPr>
            <p:cNvPr id="124" name=""/>
            <p:cNvSpPr/>
            <p:nvPr/>
          </p:nvSpPr>
          <p:spPr>
            <a:xfrm>
              <a:off x="208080" y="5410080"/>
              <a:ext cx="2666880" cy="68580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360360" y="5467320"/>
            <a:ext cx="2362320" cy="52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0360" y="5467320"/>
                      <a:ext cx="236232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" name=""/>
          <p:cNvGrpSpPr/>
          <p:nvPr/>
        </p:nvGrpSpPr>
        <p:grpSpPr>
          <a:xfrm>
            <a:off x="3830760" y="5410080"/>
            <a:ext cx="2057400" cy="627120"/>
            <a:chOff x="3830760" y="5410080"/>
            <a:chExt cx="2057400" cy="627120"/>
          </a:xfrm>
        </p:grpSpPr>
        <p:sp>
          <p:nvSpPr>
            <p:cNvPr id="128" name=""/>
            <p:cNvSpPr/>
            <p:nvPr/>
          </p:nvSpPr>
          <p:spPr>
            <a:xfrm>
              <a:off x="3830760" y="5410080"/>
              <a:ext cx="2057400" cy="6098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3907080" y="5424480"/>
            <a:ext cx="1905120" cy="61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07080" y="5424480"/>
                      <a:ext cx="190512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"/>
          <p:cNvGrpSpPr/>
          <p:nvPr/>
        </p:nvGrpSpPr>
        <p:grpSpPr>
          <a:xfrm>
            <a:off x="6865920" y="5410080"/>
            <a:ext cx="2133720" cy="603360"/>
            <a:chOff x="6865920" y="5410080"/>
            <a:chExt cx="2133720" cy="603360"/>
          </a:xfrm>
        </p:grpSpPr>
        <p:sp>
          <p:nvSpPr>
            <p:cNvPr id="132" name=""/>
            <p:cNvSpPr/>
            <p:nvPr/>
          </p:nvSpPr>
          <p:spPr>
            <a:xfrm>
              <a:off x="6865920" y="5410080"/>
              <a:ext cx="2133720" cy="53352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865920" y="5448240"/>
            <a:ext cx="2133720" cy="565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65920" y="5448240"/>
                      <a:ext cx="2133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"/>
          <p:cNvSpPr/>
          <p:nvPr/>
        </p:nvSpPr>
        <p:spPr>
          <a:xfrm>
            <a:off x="2860560" y="5715000"/>
            <a:ext cx="914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715000"/>
            <a:ext cx="914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9480" y="52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配方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72040" y="52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开平方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33520" y="304920"/>
            <a:ext cx="2930400" cy="861480"/>
            <a:chOff x="533520" y="304920"/>
            <a:chExt cx="2930400" cy="8614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533520" y="376200"/>
              <a:ext cx="792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374840" y="304920"/>
              <a:ext cx="2089080" cy="684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482840" y="41256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做一做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880560" y="1752480"/>
            <a:ext cx="7806240" cy="1023480"/>
            <a:chOff x="880560" y="1752480"/>
            <a:chExt cx="7806240" cy="1023480"/>
          </a:xfrm>
        </p:grpSpPr>
        <p:sp>
          <p:nvSpPr>
            <p:cNvPr id="144" name=""/>
            <p:cNvSpPr/>
            <p:nvPr/>
          </p:nvSpPr>
          <p:spPr>
            <a:xfrm>
              <a:off x="880560" y="1828800"/>
              <a:ext cx="202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把下列方程化成　</a:t>
              </a:r>
              <a:endParaRPr b="0" lang="en-US" sz="2800" spc="-1" strike="noStrike">
                <a:solidFill>
                  <a:srgbClr val="3366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的形式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.</a:t>
              </a:r>
              <a:endParaRPr b="0" lang="en-US" sz="2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2971800" y="1752480"/>
            <a:ext cx="5715000" cy="62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1752480"/>
                      <a:ext cx="571500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7" name=""/>
          <p:cNvGraphicFramePr/>
          <p:nvPr/>
        </p:nvGraphicFramePr>
        <p:xfrm>
          <a:off x="382680" y="3276720"/>
          <a:ext cx="8226360" cy="21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680" y="3276720"/>
                    <a:ext cx="822636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92720" y="34776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例</a:t>
            </a:r>
            <a:r>
              <a:rPr b="1" lang="en-US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0720" y="1676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81080" y="1600200"/>
          <a:ext cx="320040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00200"/>
                    <a:ext cx="3200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371600" y="2819520"/>
          <a:ext cx="5410080" cy="69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819520"/>
                    <a:ext cx="54100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09680" y="3886200"/>
          <a:ext cx="251172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3886200"/>
                    <a:ext cx="25117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76520" y="4968720"/>
          <a:ext cx="4165560" cy="65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4968720"/>
                    <a:ext cx="41655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62320" y="5943600"/>
          <a:ext cx="2976480" cy="69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5943600"/>
                    <a:ext cx="2976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209680" y="2286000"/>
          <a:ext cx="2622600" cy="61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09680" y="2286000"/>
                    <a:ext cx="2622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13616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：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2286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把常数项移到方程的右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77840" y="342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程两边都加上一次项系数一半的平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886200"/>
            <a:ext cx="39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程左边是含未知数的完全平方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程的右边是一个常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5640" y="550224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正数的平方根有两个，它们互为相反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2362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　　通过配方，把方程的一边化成完全平方式，另一边化成非负数，然后利用开平方的方法求出一元二次方程的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33280" y="4038480"/>
            <a:ext cx="159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解一元二次方程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配方法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85800" y="304920"/>
            <a:ext cx="3076560" cy="820440"/>
            <a:chOff x="685800" y="304920"/>
            <a:chExt cx="3076560" cy="82044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858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673280" y="304920"/>
              <a:ext cx="2089080" cy="684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7809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34280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解下列方程：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2743200"/>
          <a:ext cx="777240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43200"/>
                    <a:ext cx="7772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685800" y="304920"/>
            <a:ext cx="3076560" cy="820440"/>
            <a:chOff x="685800" y="304920"/>
            <a:chExt cx="3076560" cy="82044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6858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673280" y="304920"/>
              <a:ext cx="2089080" cy="684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7809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38080" y="2590920"/>
            <a:ext cx="74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　　一个矩形的长比宽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c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矩形的面积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5cm</a:t>
            </a:r>
            <a:r>
              <a:rPr b="1" lang="zh-CN" sz="32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求矩形的长和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cp:keywords/>
  <dc:language>en-US</dc:language>
  <cp:lastModifiedBy>微软用户</cp:lastModifiedBy>
  <dcterms:modified xsi:type="dcterms:W3CDTF">2012-07-06T02:34:10Z</dcterms:modified>
  <cp:revision>2</cp:revision>
  <dc:subject> </dc:subject>
  <dc:title> </dc:title>
</cp:coreProperties>
</file>